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EF1-44D6-4CFA-8BDD-F82A4325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D0E4-55A5-473F-9C2A-2FC29B72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FEDE-6B49-44E3-A21D-22B500B2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C2D-1F95-4F26-AA3C-6561A57A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246F-D6C4-41DF-872E-01853FBE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5AC6-51C1-4367-9A21-EC1E1933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5100-C5D7-4DB8-B641-4728CAD3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71F8-2FC0-40DD-B482-56C6979D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C685-468F-4602-8B93-6A6787B5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7B44-A5BF-4FD1-843A-8A44358B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EF52-C204-44F1-850A-C070FA2A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81BE-6F4F-4781-8637-BC101253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B09B-B496-4386-8A90-E9EA15BD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8106-EB57-40AA-B4D2-09960A28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BED3-1FCF-4686-8AC1-2B2C4A13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E6EC-3581-45EC-8B99-59E5BD39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A725-866A-44A7-A6B8-D4D9F521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8964-C9EC-45B4-84E1-6A96FC60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9613-FDB8-4A22-8DA3-79EAE701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E0C-5358-4A2F-984A-6D209B5A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0352-7950-448D-8226-9F086CEF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EA9C-742D-43E7-8185-D38B35D0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C61-9B23-4C6A-BF29-5BE202D6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DC2-84F9-4BF5-A88D-92CA2B06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DB51-0C9D-4B9B-93F3-96C7BBEDBCA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7A0B-D6FE-45B1-A33C-B99584DBF305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0800"/>
                </a:solidFill>
                <a:latin typeface="Times New Roman"/>
              </a:rPr>
              <a:t>Шестнадцатое января</a:t>
            </a:r>
            <a:br>
              <a:rPr sz="4400"/>
            </a:br>
            <a:r>
              <a:rPr b="1" lang="ru-RU" sz="4400" spc="-1" strike="noStrike">
                <a:solidFill>
                  <a:srgbClr val="100800"/>
                </a:solidFill>
                <a:latin typeface="Times New Roman"/>
              </a:rPr>
              <a:t>Классная работ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042920" y="1773360"/>
            <a:ext cx="777240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0" name="Picture 4" descr="0007-007-Biografija-Majakovskogo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3" name="Picture 4" descr="0009-009-1911-g"/>
          <p:cNvPicPr/>
          <p:nvPr/>
        </p:nvPicPr>
        <p:blipFill>
          <a:blip r:embed="rId1"/>
          <a:stretch/>
        </p:blipFill>
        <p:spPr>
          <a:xfrm>
            <a:off x="395280" y="189000"/>
            <a:ext cx="8569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6" name="Picture 4" descr="0010-010-1912-g"/>
          <p:cNvPicPr/>
          <p:nvPr/>
        </p:nvPicPr>
        <p:blipFill>
          <a:blip r:embed="rId1"/>
          <a:stretch/>
        </p:blipFill>
        <p:spPr>
          <a:xfrm>
            <a:off x="468360" y="112680"/>
            <a:ext cx="8424720" cy="64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Футуризм  и  Маяковский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02000"/>
                </a:solidFill>
                <a:uFillTx/>
                <a:latin typeface="Times New Roman"/>
              </a:rPr>
              <a:t>Футуризм</a:t>
            </a: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 (от лат. </a:t>
            </a:r>
            <a:r>
              <a:rPr b="1" lang="en-US" sz="1800" spc="-1" strike="noStrike">
                <a:solidFill>
                  <a:srgbClr val="402000"/>
                </a:solidFill>
                <a:latin typeface="Times New Roman"/>
              </a:rPr>
              <a:t>Futurum - будущее) - авангардистское направление в европейском искус</a:t>
            </a:r>
            <a:r>
              <a:rPr b="1" lang="ru-RU" sz="1800" spc="-1" strike="noStrike">
                <a:solidFill>
                  <a:srgbClr val="402000"/>
                </a:solidFill>
                <a:latin typeface="Times New Roman"/>
              </a:rPr>
              <a:t>с</a:t>
            </a:r>
            <a:r>
              <a:rPr b="1" lang="en-US" sz="1800" spc="-1" strike="noStrike">
                <a:solidFill>
                  <a:srgbClr val="402000"/>
                </a:solidFill>
                <a:latin typeface="Times New Roman"/>
              </a:rPr>
              <a:t>тве 1910-1920 годов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Times New Roman"/>
              </a:rPr>
              <a:t>В литературе - переплетение документального материала и фантастики, в поэзии - языковое экспериментирование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Times New Roman"/>
              </a:rPr>
              <a:t>Маяковский подписал манифест русских футуристов “Пощечина общественному вкусу”(1912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“…</a:t>
            </a:r>
            <a:r>
              <a:rPr b="1" i="1" lang="en-US" sz="1800" spc="-1" strike="noStrike">
                <a:solidFill>
                  <a:srgbClr val="0000cc"/>
                </a:solidFill>
                <a:latin typeface="Times New Roman"/>
              </a:rPr>
              <a:t>Только мы лицо нашего времени. Рог времени трубит нами в словесном искусстве. Прошлое тесно…”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5181480" y="1752480"/>
          <a:ext cx="34290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752480"/>
                    <a:ext cx="34290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А вы могли бы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71640" y="1484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Я сразу смазал карту будня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леснувши краску из стакана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Я показал на блюде студн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осые скулы океана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На чешуе жестяной рыб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очел я зовы новы губ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 в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ноктюрн сыграть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могли б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На флейте водосточных труб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: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Ноктюрн – небольшое музыкальное произведение лирического характера</a:t>
            </a: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Ранняя  лирика  В. Маяковского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0800"/>
                </a:solidFill>
                <a:latin typeface="Times New Roman"/>
              </a:rPr>
              <a:t>«А вы могли бы?»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0800"/>
                </a:solidFill>
                <a:latin typeface="Times New Roman"/>
              </a:rPr>
              <a:t>«Нате!»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0800"/>
                </a:solidFill>
                <a:latin typeface="Times New Roman"/>
              </a:rPr>
              <a:t>«Послушайте!»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0800"/>
                </a:solidFill>
                <a:latin typeface="Times New Roman"/>
              </a:rPr>
              <a:t>«Хорошее отношение к лошадям»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0800"/>
                </a:solidFill>
                <a:latin typeface="Times New Roman"/>
              </a:rPr>
              <a:t>«Скрипка и немножко нервно»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2000"/>
                </a:solidFill>
                <a:latin typeface="Times New Roman"/>
              </a:rPr>
              <a:t>Гунн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– группа древних тюркских племен, вторгшихся в Европу в начале нашей эры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Лирический герой раннего Маяковского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способность к глубоким и сильным чувствам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любовь к людям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бунтарство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ненависть к мещанству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черты, характеризующие лирического героя раннего Маяковского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5715000" y="1828800"/>
          <a:ext cx="297180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828800"/>
                    <a:ext cx="29718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.Маяковский и революци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4" name="Picture 4" descr="0003-003-Vladimir-Majakovskij-1893-1930"/>
          <p:cNvPicPr/>
          <p:nvPr/>
        </p:nvPicPr>
        <p:blipFill>
          <a:blip r:embed="rId1"/>
          <a:srcRect l="0" t="36745" r="0" b="0"/>
          <a:stretch/>
        </p:blipFill>
        <p:spPr>
          <a:xfrm>
            <a:off x="990720" y="1557360"/>
            <a:ext cx="77724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«Бесценных слов транжир и мот…»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0" y="182880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99"/>
                </a:solidFill>
                <a:latin typeface="Times New Roman"/>
              </a:rPr>
              <a:t>Владимир   </a:t>
            </a:r>
            <a:r>
              <a:rPr b="1" i="1" lang="ru-RU" sz="33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33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33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3300" spc="-1" strike="noStrike">
                <a:solidFill>
                  <a:srgbClr val="000099"/>
                </a:solidFill>
                <a:latin typeface="Times New Roman"/>
              </a:rPr>
              <a:t>Владимирович    </a:t>
            </a:r>
            <a:r>
              <a:rPr b="1" i="1" lang="ru-RU" sz="33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33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i="1" lang="ru-RU" sz="3300" spc="-1" strike="noStrike">
                <a:solidFill>
                  <a:srgbClr val="000099"/>
                </a:solidFill>
                <a:latin typeface="Times New Roman"/>
              </a:rPr>
              <a:t>Маяковский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marL="28116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02000"/>
                </a:solidFill>
                <a:latin typeface="Times New Roman"/>
              </a:rPr>
              <a:t>1893 - 1930</a:t>
            </a:r>
            <a:endParaRPr b="0" lang="en-US" sz="3300" spc="-1" strike="noStrike">
              <a:solidFill>
                <a:srgbClr val="402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3" name="Object 5"/>
          <p:cNvGraphicFramePr/>
          <p:nvPr/>
        </p:nvGraphicFramePr>
        <p:xfrm>
          <a:off x="1143000" y="17524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34290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Скругленный прямоугольник 6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7" name="Picture 4" descr="0017-017-Revoljutsiej-demobilizovannyj-i-prizvслайд 9"/>
          <p:cNvPicPr/>
          <p:nvPr/>
        </p:nvPicPr>
        <p:blipFill>
          <a:blip r:embed="rId1"/>
          <a:stretch/>
        </p:blipFill>
        <p:spPr>
          <a:xfrm>
            <a:off x="468360" y="260280"/>
            <a:ext cx="8496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0" name="Picture 4" descr="0019-019-1919-g-rabota-v-ROSTA"/>
          <p:cNvPicPr/>
          <p:nvPr/>
        </p:nvPicPr>
        <p:blipFill>
          <a:blip r:embed="rId1"/>
          <a:stretch/>
        </p:blipFill>
        <p:spPr>
          <a:xfrm>
            <a:off x="539640" y="260280"/>
            <a:ext cx="842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3" name="Picture 4" descr="слад 11"/>
          <p:cNvPicPr/>
          <p:nvPr/>
        </p:nvPicPr>
        <p:blipFill>
          <a:blip r:embed="rId1"/>
          <a:stretch/>
        </p:blipFill>
        <p:spPr>
          <a:xfrm>
            <a:off x="539640" y="189000"/>
            <a:ext cx="8425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Личность В.Маяковског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90360" y="1828800"/>
            <a:ext cx="790236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И в силе, и в слабостях он предстал человеком предельной самоотдачи. Никакой идеи, никакому делу он не отдавал себя наполовину, он отдавал всего себя или не отдавал ничего. Он пришёл в мир для жизни, для борьбы, он перенасыщен энергией действия: “И чувствую – “я” для меня мало. Кто-то из меня вырывается упрямо”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Домашнее  задание: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1. www.vmayakovsky.ru  - биография «Я сам»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                                         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(учебник стр. 393-399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2. Наизусть одно из стихотворений ранней лирики В.Маяковского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3. Доп. задание: «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Женщины в жизни В.В.Маяковского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» (по материалам сайта, 3-4 мин.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402000"/>
                </a:solidFill>
                <a:latin typeface="Times New Roman"/>
              </a:rPr>
              <a:t>Спасибо за работу</a:t>
            </a:r>
            <a:endParaRPr b="0" lang="en-US" sz="6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«Бесценных слов транжир и мот…»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35280" y="1828800"/>
            <a:ext cx="512784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«Ясам расскажу о времени и о себе…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И чувствую -  «Я» для меня мало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Кто-то из меня вырывается упрямо.»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В.Маяковский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98" name="Object 5"/>
          <p:cNvGraphicFramePr/>
          <p:nvPr/>
        </p:nvGraphicFramePr>
        <p:xfrm>
          <a:off x="1143000" y="1752480"/>
          <a:ext cx="2421000" cy="32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242100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Скругленный прямоугольник 6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3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Тип урока</a:t>
            </a:r>
            <a:r>
              <a:rPr b="0" lang="ru-RU" sz="2800" spc="-1" strike="noStrike">
                <a:solidFill>
                  <a:srgbClr val="996633"/>
                </a:solidFill>
                <a:latin typeface="Times New Roman"/>
              </a:rPr>
              <a:t>: вводный</a:t>
            </a:r>
            <a:br>
              <a:rPr sz="2800"/>
            </a:b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Форма урока</a:t>
            </a:r>
            <a:r>
              <a:rPr b="0" lang="ru-RU" sz="2800" spc="-1" strike="noStrike">
                <a:solidFill>
                  <a:srgbClr val="996633"/>
                </a:solidFill>
                <a:latin typeface="Times New Roman"/>
              </a:rPr>
              <a:t>: ролевая игра с использованием мультимедиа</a:t>
            </a:r>
            <a:br>
              <a:rPr sz="2400"/>
            </a:br>
            <a:r>
              <a:rPr b="0" lang="ru-RU" sz="2400" spc="-1" strike="noStrike">
                <a:solidFill>
                  <a:srgbClr val="996633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71280" y="1557360"/>
            <a:ext cx="7777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Цели урока</a:t>
            </a:r>
            <a:r>
              <a:rPr b="0" lang="ru-RU" sz="2000" spc="-1" strike="noStrike">
                <a:solidFill>
                  <a:srgbClr val="a08366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0800"/>
                </a:solidFill>
                <a:latin typeface="Times New Roman"/>
              </a:rPr>
              <a:t>1) Воспитательная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0800"/>
                </a:solidFill>
                <a:latin typeface="Times New Roman"/>
              </a:rPr>
              <a:t>Воспитание  интереса к литературе, к творчеству В.Маяковского, любви к родному слову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08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08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100800"/>
                </a:solidFill>
                <a:latin typeface="Times New Roman"/>
              </a:rPr>
              <a:t>) Познавательная (учебная)</a:t>
            </a:r>
            <a:r>
              <a:rPr b="0" lang="ru-RU" sz="1800" spc="-1" strike="noStrike">
                <a:solidFill>
                  <a:srgbClr val="1008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08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100800"/>
                </a:solidFill>
                <a:latin typeface="Times New Roman"/>
              </a:rPr>
              <a:t>Знакомство со страницами биографии В.Маяковского до революции и в первые ее годы, с особенностями ранней лирики, с оригинальностью таланта В.Маяковского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08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0800"/>
                </a:solidFill>
                <a:latin typeface="Times New Roman"/>
              </a:rPr>
              <a:t>3) Развивающая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0800"/>
                </a:solidFill>
                <a:latin typeface="Times New Roman"/>
              </a:rPr>
              <a:t>Формирование умений речевой деятельности, творческого развития личности, способной выразить себя в слове; умения  анализировать стихотворения; развитие диалогической речи, артистических способностей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008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100800"/>
                </a:solidFill>
                <a:latin typeface="Times New Roman"/>
              </a:rPr>
              <a:t>формирование личностных качеств, коммуникативной компетенции  и информационной компетенции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2806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a2d2d"/>
                </a:solidFill>
                <a:latin typeface="Times New Roman"/>
              </a:rPr>
              <a:t>Детство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5" name="Picture 4" descr="0003-003-Biografija-Majakovskogo"/>
          <p:cNvPicPr/>
          <p:nvPr/>
        </p:nvPicPr>
        <p:blipFill>
          <a:blip r:embed="rId1"/>
          <a:stretch/>
        </p:blipFill>
        <p:spPr>
          <a:xfrm>
            <a:off x="684360" y="1268280"/>
            <a:ext cx="820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8" name="Picture 4" descr="слайд1"/>
          <p:cNvPicPr/>
          <p:nvPr/>
        </p:nvPicPr>
        <p:blipFill>
          <a:blip r:embed="rId1"/>
          <a:stretch/>
        </p:blipFill>
        <p:spPr>
          <a:xfrm>
            <a:off x="539640" y="260280"/>
            <a:ext cx="8353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1" name="Picture 4" descr="0005-005-Biografija-Majakovskogo"/>
          <p:cNvPicPr/>
          <p:nvPr/>
        </p:nvPicPr>
        <p:blipFill>
          <a:blip r:embed="rId1"/>
          <a:stretch/>
        </p:blipFill>
        <p:spPr>
          <a:xfrm>
            <a:off x="539640" y="260280"/>
            <a:ext cx="8353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4" name="Picture 4" descr="слайд3"/>
          <p:cNvPicPr/>
          <p:nvPr/>
        </p:nvPicPr>
        <p:blipFill>
          <a:blip r:embed="rId1"/>
          <a:stretch/>
        </p:blipFill>
        <p:spPr>
          <a:xfrm>
            <a:off x="539640" y="189000"/>
            <a:ext cx="8604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7" name="Picture 4" descr="0006-006-слайд 5"/>
          <p:cNvPicPr/>
          <p:nvPr/>
        </p:nvPicPr>
        <p:blipFill>
          <a:blip r:embed="rId1"/>
          <a:stretch/>
        </p:blipFill>
        <p:spPr>
          <a:xfrm>
            <a:off x="468360" y="189000"/>
            <a:ext cx="8424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3T15:16:45Z</dcterms:created>
  <dc:creator>Anton V.Kalinin</dc:creator>
  <dc:description/>
  <dc:language>en-US</dc:language>
  <cp:lastModifiedBy>Никитка</cp:lastModifiedBy>
  <dcterms:modified xsi:type="dcterms:W3CDTF">2013-01-15T10:39:48Z</dcterms:modified>
  <cp:revision>26</cp:revision>
  <dc:subject/>
  <dc:title>«Бесценных слов транжир и мот…»</dc:title>
</cp:coreProperties>
</file>